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CD0-B04B-44B2-A15F-7A55F630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5D5-9E2F-4702-9189-F4164B62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B25-8209-4B60-84C0-1B49FC02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025-043B-413E-90D0-9C93BDCC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0D3-EF69-4944-AA2D-62B09F70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FA6-68A9-4D41-BEBA-BA4F0CF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930-9126-4DB5-8289-65B354D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289-25C4-4C05-A2E9-FB227FE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AD9-4BB5-41A2-85AB-EF3299F5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5C5-DD0E-40FC-B91A-5C53873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E8D-61E6-4BF2-8246-10CD496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8E8-BAF4-4ED1-B992-F64DE20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F490-FD3E-4AB7-B5D9-3D8D34EA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914400"/>
            <a:ext cx="415764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eative Logo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3962520"/>
            <a:ext cx="3333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idden Messag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1123920"/>
            <a:ext cx="5410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33480"/>
            <a:ext cx="63244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1660680"/>
            <a:ext cx="434340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1417680"/>
            <a:ext cx="5257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60195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141768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1316160"/>
            <a:ext cx="5410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189080"/>
            <a:ext cx="5257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1123920"/>
            <a:ext cx="52578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22:55:24Z</dcterms:created>
  <dc:creator>Patrick J. Mooney</dc:creator>
  <dc:description/>
  <dc:language>en-US</dc:language>
  <cp:lastModifiedBy>Patrick J. Mooney</cp:lastModifiedBy>
  <dcterms:modified xsi:type="dcterms:W3CDTF">2011-09-22T00:11:15Z</dcterms:modified>
  <cp:revision>3</cp:revision>
  <dc:subject/>
  <dc:title>Slide 1</dc:title>
</cp:coreProperties>
</file>